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0B69-5AE9-4A68-8196-D822C77ACB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83BBC-5D72-4A14-930D-C20A84741F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7D99-1771-45DC-A136-EFDA4F6333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363AB-30AC-4F9D-9F58-BD3D7BF1E9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4326-3B38-48C0-9827-74B3146DE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BA65-5AB8-4BA6-8BE2-14A49A7AC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E10C9-A746-44B4-813F-FDD1BF32D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40AA5-9F0E-414A-9F95-B8B845E098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6AAC-FB11-433A-A905-AFE093323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88B0-9C22-4334-861D-A2C95A146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6B2D-775C-43BF-A16A-7FA7E8988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8839-E2E6-4518-A003-D5A9046A62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76C7-BFDE-444D-92F2-8837EE141B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AF4AD-BCB8-46A7-9E94-40B263586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1584D-02B2-4479-A11A-6516BC59C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871BB-7780-488A-884F-FE16206F0C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1264-D312-4F8E-87C3-B86E0E6A7D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0F6D-A301-4CB0-BF30-BBF129F24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E5A22-8ECB-4534-A890-CDDDA14CBB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4CD1-BF7A-44D3-BDDD-E52E211AD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3208-66BD-4BFA-8583-E88DF64D1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A48B5-55A7-4F0F-BC78-1825846894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B263-B05E-438D-888C-195905CE0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3685-EF12-4F7D-8B34-E04689854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A80C-4D3E-4CE0-AAB8-8FCE02D25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9D34-A661-4A58-8DD6-D7FAEA673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80BE-001E-4DB8-823F-F29E524C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EAD9-751A-4D31-8565-0A142C8EA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0BB2B-50A8-4A82-BA65-57E303B33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A176-3DD0-493C-92EE-F03795688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4B27D-12D2-4E57-919C-9E8FC0075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8142-8EAC-44A3-B606-38B5241D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8356-ED9E-46E9-AE46-2E83E03C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9856-D3AF-4E8A-B885-DEC751F1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2E7D-4AD4-4E50-8E15-D7C11563F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F27E8-010E-4991-9CD6-333F6685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1DFEB-30C0-4FA1-A962-58FEA65D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83EE-A1D3-4FE3-9DAE-581C3074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36B4C-E8F8-431D-AC46-69CACB6AD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D0AE-6A5C-419F-8A94-353BD3E89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DDAC-A7AA-41E8-97CD-FF9C3FF69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1150-C2EB-4CC8-A6AE-FE696CB2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383E-EE7A-443C-848C-9D5388C1B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098B-F6F3-468B-BBCB-82E4F637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0EB2-2D83-46F0-8FBE-3FAB620FF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5B6F-986A-4525-82F1-C6D3E49CB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EE48-885B-49E8-829D-CCA16A8A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76DE8-AE58-4AD6-A359-D90B0D8B2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48D09-4670-4652-8946-3D2FDF6EF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oicethread.com/share/8059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oodle.pennfield.net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urfaquarium.com/MI/inventory.htm" TargetMode="External"/><Relationship Id="rId2" Type="http://schemas.openxmlformats.org/officeDocument/2006/relationships/hyperlink" Target="http://www.oswego.edu/plsi/taketes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oicethread.com/share/805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odle.pennfield.net</a:t>
            </a:r>
            <a:br>
              <a:rPr sz="2000"/>
            </a:b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5120" y="16765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y listen to m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aybe you should run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One to one program perspectiv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rainer for staff P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acul Closing Sess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reated by the people and for the peop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Go to website and give a topic you want to pursu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e entire group of people will collaborate on the spot to build a less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blog.discoveryeducation.com/maculcloser 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04760" y="16761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uild from ther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urfaquarium.com/MI/inventory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swego.edu/plsi/taketest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18:51:31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