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F83B-B05B-4826-98F1-A95BC0DCC7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2F3F2-AF23-4286-8D90-01860CBD8A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908F-FB23-4D88-A11D-FF247838E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195F1-231E-4D08-B6E9-85B1D6A1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B127-2444-4670-BBA0-213BB8972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87E7-329F-4F06-A92B-C93A94013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52B26-0636-4887-9D42-DE5F39CBD0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6768-4FE2-4160-9232-1784F29D4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C017C-3E0B-472E-970E-FBD75081FE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983DB-4F9F-403E-87A5-22157273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41C21-2B0C-47EE-8BA0-32B2EDCF2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C53E-601E-4978-AFD4-E7E296653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D01DF-63A4-4132-8EF6-4499DBF0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04C4-9667-4618-A2BB-1C0BC93A0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A6A5-95CC-473F-88C9-BE9771730E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13133-B036-4835-9B27-6E0C242A40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42556-9AF3-495C-94EC-43AC8617A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1FED-5FCF-4BFF-B05D-D5B0E29AE5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2E53-123C-43FA-8F79-C505F75038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510D0-400A-4567-B06D-35333FFE11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FDE94-4026-41C1-8C6F-B1DF97F3F8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56DD4-B828-4E86-AFDA-4B6BEFB8C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7067-4B75-4E43-82A2-AA2E47330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809E-CE88-4CA3-9FC0-46DE661D1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C6B-4CC7-4BFE-9D85-1E18EA5C2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8313-2D99-45D6-B28B-107E3473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4520B-3D21-4EF2-B5E6-EBC9FFB4E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39636-3E90-4488-A2C1-19AB5506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7FDCB-CCEF-40EA-8DC4-3120EE3C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AAF76-7414-4306-A255-285A8976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35D9-0C20-4A7F-A18F-51B8D232D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6E3C-BEF4-4546-8AB7-1AC46FAD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8605D-6C90-4876-915C-63A3B775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95F7-2181-4DB9-8250-7393EEB5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D5788-9892-4B05-B537-53BF5163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792F-E916-489F-844B-3A3B0B51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83A1-7350-4010-8BA8-6D72BFDB0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D0E3F-0DD8-4833-A911-753E2C92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1C005-A2CF-4287-835A-66BD642A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8694-73D4-4405-930D-F91018FC0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511C-5372-4711-B1C5-4EBB52B8C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F5AD-EEFC-4616-A82E-74CF6185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AA28-754F-445A-B9F6-FEB63C02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D1C-79B4-4028-8FAD-F19BAB2B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FA08-4AEF-4964-A5C3-3716ADA86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DC5-428A-47C5-BA1E-86C10E21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E377-D941-4DEF-A925-2B2A62568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745EF-5EFB-48DA-8649-2905D197198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voicethread.com/share/80590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http://moodle.pennfield.net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4760" y="1676520"/>
            <a:ext cx="708660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02:10:15Z</dcterms:modified>
  <cp:revision>1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