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37C1-41AF-498B-81C7-7B06FD7AB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55B0-B061-4CA7-BC63-5AE839B4B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3B81-EF4E-42D4-9E5E-021735497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151E-37C7-4C11-98F1-0070E44D0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BF18-A955-4312-BDED-8E91974A9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4F0D-A089-4E6D-964A-4B606145A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B480-48A1-4064-8147-80F270616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B96B-E40B-482F-92E7-D718A2BFC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D07B-47A0-471D-A7E3-967678148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D148-23AA-4FEE-94A6-65E17965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CE06-B2BB-47E4-8253-3DD8EAEC5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3D08-130D-4E31-8741-1B6F6F024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9216-35C5-438B-A94F-347F4EBF9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F082-A20F-415B-A83C-B12AD5F0C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8B68-EE65-4692-8708-1F7D87C90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FCCE-C9D3-47AB-8414-C76FECD4C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9D05-81AC-4B76-B471-E38CEB13D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C60D-B364-4E6A-A985-F0E8CF9F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3BFE-294C-4070-A110-5484B54F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93CF-97DF-43B5-99C6-D0D877F4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EE1C-109E-49EB-AA02-DFC47D88D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20F2-79D3-4DB3-B1F7-04F7BCAF7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3148-C2CB-4952-B6FE-49C1A3926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F1F-2DA5-401D-821E-0655FE83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FD5-445C-41BE-B9B1-58B96D7B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60E-7B08-42E0-B13F-ACC39F4D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E35-5C1E-4309-96D8-479EDAE3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ED31-AF1F-41E6-BD15-C15C848E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7EAA-EBFA-4BBD-B9D6-4194EAA3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CF3C-112F-436B-AF98-AB5FCCF6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7941-4359-447B-AA76-22E92C3E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1791-75BC-49E2-B725-0D1D97E9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25B2-B208-41A7-AE10-84E3EF44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B459-C954-4082-9810-E119B81F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6F4-82EB-4C59-A509-EC84F5F8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A27C-F3E1-4687-922D-76F946C6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5A68-42D9-4E0B-9EFF-148C0F9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F0E9-FE30-458A-A934-9DEB73C8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6410-B203-4959-828C-E397A09C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6AE3-2ECC-4FA1-8595-FD741642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089-8769-42AF-946F-549D1E46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208-5354-4C45-B591-265C9894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804-3E6C-4827-9082-81969F1E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F16-717D-4727-85DF-10D6EEE8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501-40C3-4E7E-86B1-1A2839CF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359-2190-428A-8525-EB357246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B7E-00E5-41D3-B75C-076234F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BFB0-F814-40AB-B9FD-2FDFE0D1A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F4AD-9CBE-411F-8173-FB128D353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oicethread.com/share/8059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oodle.pennfield.net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urfaquarium.com/MI/inventory.htm" TargetMode="External"/><Relationship Id="rId2" Type="http://schemas.openxmlformats.org/officeDocument/2006/relationships/hyperlink" Target="http://www.oswego.edu/plsi/taketes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oicethread.com/share/805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odle.pennfield.net</a:t>
            </a:r>
            <a:br>
              <a:rPr sz="2000"/>
            </a:b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512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y listen to m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aybe you should run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One to one program perspectiv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rainer for staff P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acul Closing Sess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reated by the people and for the peop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Go to website and give a topic you want to pursu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e entire group of people will collaborate on the spot to build a less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blog.discoveryeducation.com/maculcloser 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04760" y="16761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uild from ther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urfaquarium.com/MI/inventory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swego.edu/plsi/taketest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18:51:31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