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FE9A4-5C94-4022-9AC2-3828381183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FD64E-5FFD-42EF-B854-7B85B5008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9704-053C-4A18-B0D5-36B2211BD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A4443-0D26-4957-85AD-43F61E8CF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BC3E-F197-405C-9902-0ECBD98C0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3BD97-A3A9-453A-9C72-CF55EBA927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41D16-8C8C-4D70-BBC3-6CCFE80ED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7F66-85B2-4337-9549-43C9B4C406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BED4-DDF4-4BCC-B860-8A8F1820E5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6810F-1018-47FD-9432-4F51692B5B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FE086-8C6A-46B9-9D42-9CBDAD1626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BE336-40D5-45C4-885C-C5B2CC5F0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59BA-DAFA-47BA-BA36-36E266D5F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25A02-8A87-4F6E-AFA9-93187C21A5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F6879-A472-4D3B-84F1-CD06758B89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C3ADC-34D7-47FE-B5D2-B21CDAACBD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34679-4FBB-47B9-88D5-168BF9D8EA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7146D-5097-47B3-B442-9EBEA5E914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earch here on project learning  vs traditional lear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936E7-72D3-458E-87AD-9AC6D8B2D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D9152-962D-40E0-A3A8-6D657874D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53DE-F173-4D2B-818C-FBEA099EB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een shots of tests with lin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82878-1839-496A-BFF6-90B126BD1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6595-7AE1-4FAB-8F27-2EBE1C23F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835D-B46C-485B-83B1-AE312751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D412-8E97-45B3-AA8F-2E19DE18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9E84-D8C9-47AF-ACAA-6A4FA4ED5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17D3-387B-4EE4-9C39-B0865678B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7C47-FCFF-4D30-9517-75E48A3E9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F44AE-411F-44AB-AC3E-4B07794C6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D8FD-CE53-456D-B707-9187D4A61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05FA-8875-435D-BAEE-289F57059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FA3C4-379C-4F23-96F4-D108406CE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2019-32F5-43C6-B46E-4F9E907C6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4D6FD-59DF-4202-AB14-DCA0CB62A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22FF-16FA-482F-A0FB-0D52419B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9A366-7584-40A9-AEE1-316CC887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F7C02-E800-4A14-A94D-18624014C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70656-CBD4-4A58-88E5-BB213C3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1E85F-215C-4BF9-B30B-CEAB0A2C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0092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97080" y="16761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476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0092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97080" y="4183560"/>
            <a:ext cx="2281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AD3F8-EA3F-4C33-8624-46D12D7F8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3FD0-7134-451C-95D2-4E162A2D1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F9CA-0EB6-4CC0-B3A3-43DD5D92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1C9B-811F-48EE-A44B-06D31F9A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752120" y="152280"/>
            <a:ext cx="716292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8455-3CCA-4A65-AE87-10DFD7E75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B03A-A465-4296-9D59-CA0254236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36080" y="41835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47C58-5660-4832-ADB0-34337AF0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476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36080" y="1676160"/>
            <a:ext cx="34581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4760" y="4183560"/>
            <a:ext cx="7086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AB74-431A-4637-BAB7-A846F9C46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PPP_SBUSC_TXT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2EC3-F085-4CED-A025-90A7E67180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PPP_SBUSC_TLE_Last_Piece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212747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15192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7640" y="662904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B6349-14BD-4AC5-998B-A45CB2305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www.google.com/a/pulpenn.com/" TargetMode="External"/><Relationship Id="rId2" Type="http://schemas.openxmlformats.org/officeDocument/2006/relationships/hyperlink" Target="http://www.google.com/educators/p_apps.html" TargetMode="External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voicethread.com/share/80590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moodle.pennfield.net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urfaquarium.com/MI/inventory.htm" TargetMode="External"/><Relationship Id="rId2" Type="http://schemas.openxmlformats.org/officeDocument/2006/relationships/hyperlink" Target="http://www.oswego.edu/plsi/taketest.htm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mi-techintegration.wikispaces.com/Pulling+it+Together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ols for Learning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ammy Maginity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Pennfield Schools/MSU EdTech Program</a:t>
            </a:r>
            <a:endParaRPr b="0" lang="en-US" sz="15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 Info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Different Intelligences and technolog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all together – find a bucke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ssessment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y Tool Belt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534680"/>
            <a:ext cx="3583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 Office or Open Offic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udacity – sound edit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reemind or Vu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hotosotory 3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rfanView or Picassa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12747"/>
                </a:solidFill>
                <a:latin typeface="Arial"/>
              </a:rPr>
              <a:t>Websit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Google Doc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Discovery Streaming (teacher tube, you tub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Voice Threa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Jing with Screencast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Wikispac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Content Management System (Moodle)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Google Apps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s://www.google.com/a/pulpenn.com/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Pennfield’s</a:t>
            </a:r>
            <a:br>
              <a:rPr sz="20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google.com/educators/p_apps.html</a:t>
            </a:r>
            <a:r>
              <a:rPr b="0" lang="en-US" sz="2000" spc="-1" strike="noStrike">
                <a:solidFill>
                  <a:srgbClr val="212747"/>
                </a:solidFill>
                <a:latin typeface="Arial"/>
              </a:rPr>
              <a:t> Infor</a:t>
            </a: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3"/>
          <a:stretch/>
        </p:blipFill>
        <p:spPr>
          <a:xfrm>
            <a:off x="1143000" y="15238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5029200"/>
            <a:ext cx="883944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icethread</a:t>
            </a:r>
            <a:endParaRPr b="0" lang="en-US" sz="32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52280" y="6019560"/>
            <a:ext cx="883944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voicethread.com/share/8059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2"/>
          <a:stretch/>
        </p:blipFill>
        <p:spPr>
          <a:xfrm>
            <a:off x="838080" y="685800"/>
            <a:ext cx="7093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overy Streaming</a:t>
            </a:r>
            <a:br>
              <a:rPr sz="3600"/>
            </a:br>
            <a:r>
              <a:rPr b="0" lang="en-US" sz="1800" spc="-1" strike="noStrike">
                <a:solidFill>
                  <a:srgbClr val="212747"/>
                </a:solidFill>
                <a:latin typeface="Arial"/>
              </a:rPr>
              <a:t>http://streaming.discoveryeducation.com/</a:t>
            </a:r>
            <a:endParaRPr b="0" lang="en-US" sz="18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Moodle</a:t>
            </a:r>
            <a:br>
              <a:rPr sz="3600"/>
            </a:b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moodle.pennfield.net</a:t>
            </a:r>
            <a:br>
              <a:rPr sz="2000"/>
            </a:br>
            <a:endParaRPr b="0" lang="en-US" sz="20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ubbl.u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1"/>
          <a:stretch/>
        </p:blipFill>
        <p:spPr>
          <a:xfrm>
            <a:off x="1219320" y="144792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ikispaces</a:t>
            </a:r>
            <a:br>
              <a:rPr sz="3600"/>
            </a:b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http://loomisland.wikispaces.com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  <p:pic>
        <p:nvPicPr>
          <p:cNvPr id="128" name="Picture 3" descr=""/>
          <p:cNvPicPr/>
          <p:nvPr/>
        </p:nvPicPr>
        <p:blipFill>
          <a:blip r:embed="rId1"/>
          <a:stretch/>
        </p:blipFill>
        <p:spPr>
          <a:xfrm>
            <a:off x="1219320" y="1981080"/>
            <a:ext cx="7086600" cy="42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ther Fun Sites!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labberiz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ord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oon do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ebquests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llows you to have a common goal and students get there in different ways.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Example Roman Tim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ckraker Magazi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Background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905120" y="1676520"/>
            <a:ext cx="6324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o am 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structional Technology Coordinato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SU Educational Technology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iddle School Teacher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y listen to m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aybe you should run 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One to one program perspectiv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rainer for staff PD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Example of combining MI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www.youtube.com/watch?v=x6D9jiEYxz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Opportunity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acul Closing Sess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Created by the people and for the peopl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Go to website and give a topic you want to pursu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The entire group of people will collaborate on the spot to build a less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http://blog.discoveryeducation.com/maculcloser 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o now wha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904760" y="1676160"/>
            <a:ext cx="7086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rt smal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Find out what kind of learners you hav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ick a small task and give different ways to do the task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Build from ther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At first, focus is on the tool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ssions on cool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Array of possibilitie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ere should the focus be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First on the learning outcome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Second on the learner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Then the tool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Pressure to Individualiz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ts of focus on: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individualizing learn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meeting all the students needs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s this possible? Yes, but it isn’t the easy way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s of teaching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12747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2747"/>
                </a:solidFill>
                <a:latin typeface="Arial"/>
              </a:rPr>
              <a:t>pressure to be ready</a:t>
            </a:r>
            <a:endParaRPr b="0" lang="en-US" sz="24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ecurity in the know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e Answer….Maybe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rojects and assignments that can have multiple outcomes with the learning in tac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ounds hard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t is, but it is worth it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Disclaimer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I am not creating anything new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lling together resources that exist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Putting it in a way that is useful for the classroom teacher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Where do we start?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do you want the learners to know when it is all said and done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Standards, benchmarks, GLCE’s, HSCE’s etc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is the target? How will I know if they know it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Secon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Know your learners or have them know themselv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Multiple Intelligences, Learning Styles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earning Inventories are an option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surfaquarium.com/MI/inventory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oswego.edu/plsi/taketest.htm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752120" y="152280"/>
            <a:ext cx="716292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12747"/>
                </a:solidFill>
                <a:latin typeface="Arial"/>
              </a:rPr>
              <a:t>Third</a:t>
            </a:r>
            <a:endParaRPr b="0" lang="en-US" sz="3600" spc="-1" strike="noStrike">
              <a:solidFill>
                <a:srgbClr val="212747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904760" y="1676160"/>
            <a:ext cx="7086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hat tool do I need?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We finally get to the tools…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2127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2747"/>
                </a:solidFill>
                <a:latin typeface="Arial"/>
              </a:rPr>
              <a:t>Look at the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iki</a:t>
            </a:r>
            <a:endParaRPr b="0" lang="en-US" sz="2800" spc="-1" strike="noStrike">
              <a:solidFill>
                <a:srgbClr val="2127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0T02:12:04Z</dcterms:created>
  <dc:creator>staff</dc:creator>
  <dc:description/>
  <cp:keywords/>
  <dc:language>en-US</dc:language>
  <cp:lastModifiedBy>staff</cp:lastModifiedBy>
  <dcterms:modified xsi:type="dcterms:W3CDTF">2010-03-11T18:51:31Z</dcterms:modified>
  <cp:revision>2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862111033</vt:lpwstr>
  </property>
</Properties>
</file>