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2541-5794-46E8-A3BF-3AD910DD9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3229-C451-4F1C-A53B-ADC44449F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5548-9DA3-4AC1-B32F-B42E1394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5D46-1AD6-417F-9EB9-0E67843DE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9495-B715-405B-A069-62065EF19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B8C8-1EED-407C-936C-4D5AAD619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7BC2-0F9A-4B46-9618-2EBA9E58B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4CE7-3E01-448E-A283-64797ECB7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FED8-5C8F-4B20-AA56-5CC794C2D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B5D6-5339-479D-A4AE-6362F2E40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526D-4454-425D-9648-482378DA4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2FE8-ACEB-4AD1-9B04-AAF4C6BE5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4E93-2382-4741-B866-74395E72F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B195-FB48-4CB6-AF68-E584E32A5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2BC6-6D6C-4EFD-A20C-298A3D144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E906-673B-44C8-B7E5-5679D1FBE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8804-681D-4360-83C8-7571DBD6C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C025-FB05-4432-94D0-99B37BB99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here on project learning  vs traditional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A37E-CCDC-4A29-A94C-F7679B213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65E7-99B1-4E38-AAFA-E09A4DC4C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9539-B61B-4306-9557-CCCEEADD1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een shots of tests with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2AA2-0ADA-4A20-BA75-896F2B255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2C66-1E78-4C27-BA9E-9AB4CC8B0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DCC-EA29-4C5F-B4B5-5B1F3F10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738-7ACA-46FA-AD72-FBC09095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70B7-114A-4FA4-819F-B2A0E89F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784-9154-4661-A722-68A49DED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5777-0EC8-4568-AAF0-35D78397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2F85-92F1-4E81-AF6E-D3636DB1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AFA9-86A6-4835-8C7D-86E3F3FB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3D5E-5611-449A-BA29-6C25C96E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0C88-A3C4-4DFF-9B7E-CC350BE5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2CF8-52F8-474C-AE33-D47C0D2B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B118-CCC8-4E02-A120-BC45184A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5D2-5172-4381-9E15-E0D18D90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3519-6455-4015-9F8A-EFDCB3A4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C0D7-1B34-454D-9E86-0B79F891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272D-C7A8-4513-85B8-D651F255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3782-8E8B-4137-9DF0-88688030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D1A1-75D4-4040-B128-11A38088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AAB-CC8A-4D9A-A863-569D3B16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5CC-5850-4EA4-8542-514DF2E1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8C1-B1EA-45AA-9D0A-5BC7722B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933-1F47-487E-A133-3AA2C48D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58A-106D-41D6-95BE-BF925D8B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E91-42CE-446E-A3FF-8A00D3BF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E0B-900C-4E9C-A9D4-6C4065E5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P_SBUSC_TXT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2C38-236D-4143-9934-C047150F0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PP_SBUSC_TLE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A742-955F-4343-8C1C-3E73A2A2BD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om/a/pulpenn.com/" TargetMode="External"/><Relationship Id="rId2" Type="http://schemas.openxmlformats.org/officeDocument/2006/relationships/hyperlink" Target="http://www.google.com/educators/p_app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voicethread.com/share/80590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oodle.pennfield.net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urfaquarium.com/MI/inventory.htm" TargetMode="External"/><Relationship Id="rId2" Type="http://schemas.openxmlformats.org/officeDocument/2006/relationships/hyperlink" Target="http://www.oswego.edu/plsi/taketest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-techintegration.wikispaces.com/Pulling+it+Togeth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for Learning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ammy Maginity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nnfield Schools/MSU EdTech Program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 Info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Different Intelligences and technolog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all together – find a bucke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ssessmen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y Tool Bel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 Office or Open Offic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udacity – sound edit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reemind or Vu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hotosotory 3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rfanView or Picassa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Websit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Google Doc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Discovery Streaming (teacher tube, you tub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Voice Threa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 with Screencast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Wikispac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Content Management System (Moodl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Google Apps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google.com/a/pulpenn.com/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Pennfield’s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educators/p_apps.html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Infor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thread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oicethread.com/share/805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093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overy Streaming</a:t>
            </a:r>
            <a:br>
              <a:rPr sz="3600"/>
            </a:br>
            <a:r>
              <a:rPr b="0" lang="en-US" sz="1800" spc="-1" strike="noStrike">
                <a:solidFill>
                  <a:srgbClr val="212747"/>
                </a:solidFill>
                <a:latin typeface="Arial"/>
              </a:rPr>
              <a:t>http://streaming.discoveryeducation.com/</a:t>
            </a:r>
            <a:endParaRPr b="0" lang="en-US" sz="18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oodle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odle.pennfield.net</a:t>
            </a:r>
            <a:br>
              <a:rPr sz="2000"/>
            </a:b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spaces</a:t>
            </a:r>
            <a:br>
              <a:rPr sz="3600"/>
            </a:b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http://loomisland.wikispaces.com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ther Fun Sites!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labberiz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ord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oon do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llows you to have a common goal and students get there in different ways.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Example Roman Tim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ckraker Magazi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ackground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5120" y="16765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o am 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structional Technology Coordinato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U Educational Technology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iddle School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y listen to m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aybe you should run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One to one program perspectiv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rainer for staff P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Example of combining MI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www.youtube.com/watch?v=x6D9jiEYxz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acul Closing Sess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reated by the people and for the peop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Go to website and give a topic you want to pursu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e entire group of people will collaborate on the spot to build a less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blog.discoveryeducation.com/maculcloser 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o now wha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04760" y="167616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rt smal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nd out what kind of learners you hav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ick a small task and give different ways to do the task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uild from ther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t first, focus is on the too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ssions on cool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rray of possibiliti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ere should the focus b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irst on the learning outcom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cond on the learner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hen the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Pressure to Individualiz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ts of focus on: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dividualizing learn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eeting all the students need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s this possible? Yes, but it isn’t the easy wa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s of teach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 to be ready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urity in the know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e Answer….Mayb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rojects and assignments that can have multiple outcomes with the learning in tac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ounds hard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t is, but it is worth it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laimer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 am not creating anything new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lling together resources that exis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in a way that is useful for the classroom teacher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do you want the learners to know when it is all said and do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ndards, benchmarks, GLCE’s, HSCE’s etc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is the target? How will I know if they know it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Know your learners or have them know themselv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ltiple Intelligences, Learning Styl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earning Inventories are an opt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urfaquarium.com/MI/inventory.htm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swego.edu/plsi/taketest.htm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tool do I need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 finally get to the tools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ok a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2:04Z</dcterms:created>
  <dc:creator>staff</dc:creator>
  <dc:description/>
  <cp:keywords/>
  <dc:language>en-US</dc:language>
  <cp:lastModifiedBy>staff</cp:lastModifiedBy>
  <dcterms:modified xsi:type="dcterms:W3CDTF">2010-03-11T18:51:31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